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09F3-9236-4E5E-98A8-55813B6C3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5163-85B8-40A4-B60E-890DED79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8916-B4E4-4DDE-8474-D8A4D34D2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8122-8820-44DD-A486-8750C6417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225D-B9B4-4DA8-BE08-09AB28283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13B2-99B4-4041-884C-CF4D1DAD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44C9-01E5-4CFE-A840-26E93676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7071-83F4-4AC2-8E52-CB8B494F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99DB-8A3C-45C5-A034-AF8D1142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B52E-30D2-4EFC-9547-EBB57D49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6E5D-3081-4034-9F80-1B824C2E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5C64-B899-4E7B-B453-00C8844C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D14A-ABA1-482B-8AF1-F1E73207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5113B-81DC-42C2-B4F5-3E654F6E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B75E-2C7D-455D-8140-0870C756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D501-DE72-4313-8D85-3DED82FC5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6C20-9394-4BE0-B46C-3850D4518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0ACA-9B14-4B25-A91D-A9E71B87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8EAF-9F1A-4D63-976C-9DAD4199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4C89-0B93-4C9F-9DF4-CB6191CA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E57D-FDE9-4990-A829-AFA32309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FFD9-9415-40C6-AEB7-B1ED7709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3913-73E5-41EC-B40E-317AA6A1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B736-FE9A-49D3-BEEA-19C82104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AC8D-CCAA-4B10-821D-C3A494F83D72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B5E2-AE3D-4FBC-85AD-650C1C1BCBFB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 rtl="1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 rtl="1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ffcc66"/>
                </a:solidFill>
                <a:latin typeface="Times New Roman"/>
              </a:rPr>
              <a:t>أسباب أدت إلى أهمية الإدارة</a:t>
            </a:r>
            <a:endParaRPr b="0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1) 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الإدارة عنصر من عناصر الإنتاج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600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2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) كبر حجم المنظمات وتعقد عملياتها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3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) التخصص وتقسيم العم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3352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4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) استخدام موارد اقتصادية تتسم بالندر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4191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5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) العمل في ظروف بيئية سريعة التغير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5029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6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) تعاظم دور الدول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1) 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الإدارة عملية مستمرة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2590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2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) الإدارة نشاط شام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3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) الإدارة نشاط متخص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4343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4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) الإدارة علم وفن ومهن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5181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5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) الإدارة علم جام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طبيعة الإدارة وخصائصه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50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1) 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تحديد الخطوات الأساسية التي يتكون منها العمل ، ثم اختيار أفضل طريقة لأداء هذا العمل في أقصر وقت ممكن . وذلك باستخدام الطريقة العلمية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66ff33"/>
                </a:solidFill>
                <a:latin typeface="Times New Roman"/>
                <a:cs typeface="Andalus"/>
              </a:rPr>
              <a:t>الإدارة العلمية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أسس الإدارة العلمي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50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2) 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اختيار العاملين وتدريبهم على استخدام الطريقة العلمية لانجاز الأعمال ، وتنمية التعاون بينهم ، وزيادة الحوافز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66ff33"/>
                </a:solidFill>
                <a:latin typeface="Times New Roman"/>
                <a:cs typeface="Andalus"/>
              </a:rPr>
              <a:t>الإدارة العلمية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أسس الإدارة العلمي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50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3) 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تقسيم العمل بين الإدارة والعمال بحيث يقوم كل منهم بالواجبات الخاصة به ، وبذلك تزيد الكفاية الانتاجية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66ff33"/>
                </a:solidFill>
                <a:latin typeface="Times New Roman"/>
                <a:cs typeface="Andalus"/>
              </a:rPr>
              <a:t>الإدارة العلمية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أسس الإدارة العلمي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96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4) 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الاعتراف بأن وظيفة الإدارة هي التخطيط للعمل ، وذلك بدلاً من أن يترك للعمال حرية اختيار الطريقة التي ينجزون بها الأعمال ، مما يؤدي إلى تضارب الطرق وعدم التنسيق ، أن على الإدارة التنسيق بين الجهود الجماعية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ar-SA" sz="44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66ff33"/>
                </a:solidFill>
                <a:latin typeface="Times New Roman"/>
                <a:cs typeface="Andalus"/>
              </a:rPr>
              <a:t>الإدارة العلمية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371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أسس الإدارة العلمي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1T20:25:57Z</dcterms:created>
  <dc:creator>Main</dc:creator>
  <dc:description/>
  <dc:language>en-US</dc:language>
  <cp:lastModifiedBy>Main</cp:lastModifiedBy>
  <dcterms:modified xsi:type="dcterms:W3CDTF">2004-01-01T20:47:07Z</dcterms:modified>
  <cp:revision>9</cp:revision>
  <dc:subject/>
  <dc:title>أسباب أدت إلى أهمية الإدارة</dc:title>
</cp:coreProperties>
</file>